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9C7-8541-4AD9-BA95-12CB6CEE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3C2-6746-453B-B827-F1D21FD7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B15-6485-4A51-97E7-E76388EA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F80-DE91-4BE6-A7C4-D42031C6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731-52EE-4C98-BD48-9EBCCBCF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E54-D51D-41D5-88E5-A165A2ED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082-6576-4357-ADCB-EDAED0EE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1123-78BF-4814-9041-9A54267B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E2F-AB6E-4500-85B2-47FD2899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94C-31C4-48BF-82CC-07969767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7CC0-5694-40FE-835A-9ADFC24F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779-790D-43BF-9A12-79295054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EBFD-82A0-41A3-914D-BADAE47DD2E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5920" y="826920"/>
            <a:ext cx="6597720" cy="28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vasta rete di canali artificiali che percorreva le terre di Sumer, da nord a sud, era un tesoro prezioso che andava curato e protetto. I canali portavano l’acqua del Tigri e dell’Eufrate fin quasi al deserto, dissetando terre che altrimenti sarebbero rimaste inutilizzabili. I canali alleggerivano le piene primaverili, impedendo ai grandi fiumi di sommergere ogni cosa e di trasformare i campi in paludi acquitrinose. I canali erano strade d’acqua, grazie ai quali ogni genere di merce poteva raggiungere tranquillamente il resto del mondo. I canali erano cibo, commercio e sicurezza, per il popolo delle Teste Nere.  Erano la vi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P. Lanzotti, Le parole magiche di Kengi il pensier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68280" y="179280"/>
            <a:ext cx="441036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 CANALI A SUM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71280" y="4140360"/>
            <a:ext cx="659772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Quali funzioni svolgevano i canali per i Sumeri? Elen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ome influiva la presenza di acqua sulla vita dei primi uomin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erché, secondo te, il brano si conclude con l’affermazione che i canali per i Sumeri erano la vi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1:45:34Z</dcterms:created>
  <dc:creator>Mauro Carnovali</dc:creator>
  <dc:description/>
  <dc:language>en-US</dc:language>
  <cp:lastModifiedBy>Loredana</cp:lastModifiedBy>
  <dcterms:modified xsi:type="dcterms:W3CDTF">2014-10-20T11:42:14Z</dcterms:modified>
  <cp:revision>1</cp:revision>
  <dc:subject/>
  <dc:title>Diapositiva 1</dc:title>
</cp:coreProperties>
</file>